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4044-682A-439F-804C-22257CDD6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92E0-45AB-47C4-8656-4695A9F8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30BF-2B19-4AE2-BCE6-E903D1B8D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AC2A-4352-4ACA-8CC4-8366C7307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9E4B-0DAE-459F-A45A-6EE3C7C0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70B1-0CFB-4714-9B4F-01579491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2AB5-F88D-48DB-AA03-273CA9EE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BFEA-B03E-40C3-82B3-371B745C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462B-2BB6-4152-9D58-C95196E3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5C54-D284-45DE-A7ED-F663C637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AB8C-B7D7-4D78-AAA2-0B5275C8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260B-7A52-436C-A307-B6F0C9B2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00D9-1E39-499A-8DEF-797F6C1EF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___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Clase 702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18 de septiembre del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6A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Escuchas a los profeso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b0f0"/>
                </a:solidFill>
                <a:latin typeface="Arial"/>
              </a:rPr>
              <a:t>TOMAR </a:t>
            </a:r>
            <a:r>
              <a:rPr b="1" i="1" lang="es-ES_tradnl" sz="2800" spc="-1" strike="noStrike" u="sng">
                <a:solidFill>
                  <a:srgbClr val="00b0f0"/>
                </a:solidFill>
                <a:uFillTx/>
                <a:latin typeface="Arial"/>
              </a:rPr>
              <a:t>QUIZ: REPASO 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e the following expresion in a sentence; don’t forget to conjugate the ver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udiar mucho (to study a lo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omar apuntes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o take class no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star atención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o pay atten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car notas (to get grad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Arial"/>
              </a:rPr>
              <a:t>Repaso Gramatical: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Verbos -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2203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es-ES_tradnl" sz="2600" spc="-1" strike="noStrike" u="sng">
                <a:solidFill>
                  <a:srgbClr val="000000"/>
                </a:solidFill>
                <a:uFillTx/>
                <a:latin typeface="Arial"/>
              </a:rPr>
              <a:t>verbo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es una palabra de ac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español, los verbos terminan en –AR,--ER o –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(In Spanish, all verbs end in –AR, -ER, or –I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ra conjugar los verbos –AR en el presente, remplazamos la terminación de la siguiente maner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(to conjugate –AR verbs in the present, replace ending a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follows)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600" spc="-1" strike="noStrike">
                <a:solidFill>
                  <a:srgbClr val="0000ff"/>
                </a:solidFill>
                <a:latin typeface="Arial"/>
              </a:rPr>
              <a:t>-AR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Yo-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ú-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Él Ella Ud-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osotros-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llos Ellas Uds.  -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90% of all Spanish Verbs end in –AR!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9"/>
          <p:cNvSpPr/>
          <p:nvPr/>
        </p:nvSpPr>
        <p:spPr>
          <a:xfrm>
            <a:off x="3696120" y="3733920"/>
            <a:ext cx="4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-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9"/>
          <p:cNvSpPr/>
          <p:nvPr/>
        </p:nvSpPr>
        <p:spPr>
          <a:xfrm>
            <a:off x="3711240" y="411480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-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9"/>
          <p:cNvSpPr/>
          <p:nvPr/>
        </p:nvSpPr>
        <p:spPr>
          <a:xfrm>
            <a:off x="3694320" y="456732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-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9"/>
          <p:cNvSpPr/>
          <p:nvPr/>
        </p:nvSpPr>
        <p:spPr>
          <a:xfrm>
            <a:off x="3735720" y="494820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-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9"/>
          <p:cNvSpPr/>
          <p:nvPr/>
        </p:nvSpPr>
        <p:spPr>
          <a:xfrm>
            <a:off x="3704760" y="5481720"/>
            <a:ext cx="6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-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685800"/>
          <a:ext cx="9144000" cy="6013440"/>
        </p:xfrm>
        <a:graphic>
          <a:graphicData uri="http://schemas.openxmlformats.org/drawingml/2006/table">
            <a:tbl>
              <a:tblPr/>
              <a:tblGrid>
                <a:gridCol w="1946160"/>
                <a:gridCol w="1787760"/>
                <a:gridCol w="1752480"/>
                <a:gridCol w="1827360"/>
                <a:gridCol w="1830240"/>
              </a:tblGrid>
              <a:tr h="1686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ai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(to danc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Toc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(to pl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n instru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ir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(to watch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Prepar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(to prepar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ocabul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32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l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76320" y="2666880"/>
            <a:ext cx="1528560" cy="1528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1600200" y="2666880"/>
            <a:ext cx="1866960" cy="1619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3505320" y="2833560"/>
            <a:ext cx="1050840" cy="1433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"/>
          <p:cNvPicPr/>
          <p:nvPr/>
        </p:nvPicPr>
        <p:blipFill>
          <a:blip r:embed="rId4"/>
          <a:stretch/>
        </p:blipFill>
        <p:spPr>
          <a:xfrm>
            <a:off x="6354720" y="2666880"/>
            <a:ext cx="1112760" cy="1676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5"/>
          <a:stretch/>
        </p:blipFill>
        <p:spPr>
          <a:xfrm>
            <a:off x="7620120" y="28954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"/>
          <p:cNvPicPr/>
          <p:nvPr/>
        </p:nvPicPr>
        <p:blipFill>
          <a:blip r:embed="rId6"/>
          <a:stretch/>
        </p:blipFill>
        <p:spPr>
          <a:xfrm>
            <a:off x="6858000" y="4948200"/>
            <a:ext cx="647640" cy="1604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"/>
          <p:cNvPicPr/>
          <p:nvPr/>
        </p:nvPicPr>
        <p:blipFill>
          <a:blip r:embed="rId7"/>
          <a:stretch/>
        </p:blipFill>
        <p:spPr>
          <a:xfrm>
            <a:off x="4809960" y="2743200"/>
            <a:ext cx="1209960" cy="1490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"/>
          <p:cNvPicPr/>
          <p:nvPr/>
        </p:nvPicPr>
        <p:blipFill>
          <a:blip r:embed="rId8"/>
          <a:stretch/>
        </p:blipFill>
        <p:spPr>
          <a:xfrm>
            <a:off x="4800600" y="4572000"/>
            <a:ext cx="1487520" cy="15476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3"/>
          <p:cNvSpPr/>
          <p:nvPr/>
        </p:nvSpPr>
        <p:spPr>
          <a:xfrm>
            <a:off x="76320" y="4297320"/>
            <a:ext cx="167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camiset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1752480" y="414504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cami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3200400" y="419112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pantal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4876920" y="4221000"/>
            <a:ext cx="1218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blu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6324480" y="4267080"/>
            <a:ext cx="1067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fald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7543800" y="422100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zapat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4876920" y="6126120"/>
            <a:ext cx="167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sue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0"/>
          <p:cNvSpPr/>
          <p:nvPr/>
        </p:nvSpPr>
        <p:spPr>
          <a:xfrm>
            <a:off x="7467480" y="556272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corb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1"/>
          <p:cNvSpPr/>
          <p:nvPr/>
        </p:nvSpPr>
        <p:spPr>
          <a:xfrm>
            <a:off x="2362320" y="838080"/>
            <a:ext cx="3200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Stationary St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2"/>
          <p:cNvSpPr/>
          <p:nvPr/>
        </p:nvSpPr>
        <p:spPr>
          <a:xfrm>
            <a:off x="1828800" y="144792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Sto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1600200" y="198108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cloth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4"/>
          <p:cNvSpPr/>
          <p:nvPr/>
        </p:nvSpPr>
        <p:spPr>
          <a:xfrm>
            <a:off x="1523880" y="612612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siz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Vocabul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Arial"/>
              </a:rPr>
              <a:t>Verb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228600" y="1308240"/>
            <a:ext cx="1905120" cy="1587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2"/>
          <a:stretch/>
        </p:blipFill>
        <p:spPr>
          <a:xfrm>
            <a:off x="2514600" y="1436760"/>
            <a:ext cx="1676520" cy="1306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3"/>
          <a:stretch/>
        </p:blipFill>
        <p:spPr>
          <a:xfrm>
            <a:off x="4572000" y="11430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"/>
          <p:cNvPicPr/>
          <p:nvPr/>
        </p:nvPicPr>
        <p:blipFill>
          <a:blip r:embed="rId4"/>
          <a:stretch/>
        </p:blipFill>
        <p:spPr>
          <a:xfrm>
            <a:off x="6934320" y="1295280"/>
            <a:ext cx="1728720" cy="1800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5"/>
          <a:stretch/>
        </p:blipFill>
        <p:spPr>
          <a:xfrm>
            <a:off x="228600" y="4114800"/>
            <a:ext cx="1523880" cy="1477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"/>
          <p:cNvPicPr/>
          <p:nvPr/>
        </p:nvPicPr>
        <p:blipFill>
          <a:blip r:embed="rId6"/>
          <a:stretch/>
        </p:blipFill>
        <p:spPr>
          <a:xfrm>
            <a:off x="1523880" y="4632480"/>
            <a:ext cx="1447920" cy="1052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"/>
          <p:cNvPicPr/>
          <p:nvPr/>
        </p:nvPicPr>
        <p:blipFill>
          <a:blip r:embed="rId7"/>
          <a:stretch/>
        </p:blipFill>
        <p:spPr>
          <a:xfrm>
            <a:off x="3352680" y="4191120"/>
            <a:ext cx="1524240" cy="1409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"/>
          <p:cNvPicPr/>
          <p:nvPr/>
        </p:nvPicPr>
        <p:blipFill>
          <a:blip r:embed="rId8"/>
          <a:stretch/>
        </p:blipFill>
        <p:spPr>
          <a:xfrm>
            <a:off x="4964040" y="4495680"/>
            <a:ext cx="1055880" cy="1228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"/>
          <p:cNvPicPr/>
          <p:nvPr/>
        </p:nvPicPr>
        <p:blipFill>
          <a:blip r:embed="rId9"/>
          <a:stretch/>
        </p:blipFill>
        <p:spPr>
          <a:xfrm>
            <a:off x="6553080" y="4114800"/>
            <a:ext cx="2200320" cy="17082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3"/>
          <p:cNvSpPr/>
          <p:nvPr/>
        </p:nvSpPr>
        <p:spPr>
          <a:xfrm>
            <a:off x="383040" y="289548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Estudi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2453400" y="289548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Escuch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4852800" y="289548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Ba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7041600" y="304812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Can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7"/>
          <p:cNvSpPr/>
          <p:nvPr/>
        </p:nvSpPr>
        <p:spPr>
          <a:xfrm>
            <a:off x="659520" y="5638680"/>
            <a:ext cx="18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ca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Verdana"/>
              </a:rPr>
              <a:t>(la guitar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Verdana"/>
              </a:rPr>
              <a:t>(el pia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4088160" y="5638680"/>
            <a:ext cx="144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ma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Verdana"/>
              </a:rPr>
              <a:t>(apun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Verdana"/>
              </a:rPr>
              <a:t>(fo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9"/>
          <p:cNvSpPr/>
          <p:nvPr/>
        </p:nvSpPr>
        <p:spPr>
          <a:xfrm>
            <a:off x="6718680" y="5715000"/>
            <a:ext cx="217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Saca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Verdana"/>
              </a:rPr>
              <a:t>(buenas not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Verdana"/>
              </a:rPr>
              <a:t>(malas not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s vocabul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Mas verb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lev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m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car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r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cesit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en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c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a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le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705320" y="1371600"/>
            <a:ext cx="27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wear, to ca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595880" y="1828800"/>
            <a:ext cx="13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t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1594800" y="2286000"/>
            <a:ext cx="15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1780920" y="281952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prep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910880" y="3276720"/>
            <a:ext cx="13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1974240" y="373392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look for, to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1823760" y="4191120"/>
            <a:ext cx="11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bu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1651320" y="472428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p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676160" y="518148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1724040" y="556272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wish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5486400" y="91440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1692000" y="609588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arr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6622560" y="13716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By f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7196400" y="1828800"/>
            <a:ext cx="11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By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973560" y="228600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By 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9"/>
          <p:cNvSpPr/>
          <p:nvPr/>
        </p:nvSpPr>
        <p:spPr>
          <a:xfrm>
            <a:off x="7020360" y="28195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0"/>
          <p:cNvSpPr/>
          <p:nvPr/>
        </p:nvSpPr>
        <p:spPr>
          <a:xfrm>
            <a:off x="7177320" y="3276720"/>
            <a:ext cx="10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1"/>
          <p:cNvSpPr/>
          <p:nvPr/>
        </p:nvSpPr>
        <p:spPr>
          <a:xfrm>
            <a:off x="6687720" y="3733920"/>
            <a:ext cx="5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2"/>
          <p:cNvSpPr/>
          <p:nvPr/>
        </p:nvSpPr>
        <p:spPr>
          <a:xfrm>
            <a:off x="6856920" y="4191120"/>
            <a:ext cx="20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he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15699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PRESENTE DE LOS VERBOS -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17:41:10Z</dcterms:created>
  <dc:creator>Helen Zumaeta</dc:creator>
  <dc:description/>
  <dc:language>en-US</dc:language>
  <cp:lastModifiedBy>Helen Zumaeta</cp:lastModifiedBy>
  <cp:lastPrinted>2014-09-18T17:41:12Z</cp:lastPrinted>
  <dcterms:modified xsi:type="dcterms:W3CDTF">2014-09-18T19:46:29Z</dcterms:modified>
  <cp:revision>16</cp:revision>
  <dc:subject/>
  <dc:title>Me llamo ___________ Clase 6 NH/IL La fecha es el 10 de enero del 2011</dc:title>
</cp:coreProperties>
</file>